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608E85-3B00-4771-8DBE-9BFE122888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23F48E5D-FA6C-406B-A6B4-34FED234EB9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139B11-7620-4EC4-BDC5-3FF4479B6A6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433C5F-B5FF-4498-A117-AD7096D21EB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689641-5D92-416A-9D7F-D90E0772A09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7A78957-2F06-49B7-85CF-78C0AB3EAE8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EE096D13-38D7-4949-A57B-D483D16B9BC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CA7A292E-8E42-4E37-B3E2-7667A995BB6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8640" y="1278000"/>
            <a:ext cx="7656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7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3: Personal Processe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80640" y="979200"/>
            <a:ext cx="7777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Why Define and Use a Personal Process?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a personal proces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ici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is for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sisten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defined personal process helps you to achieve consistent resul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results are more likely to be similar each time that you use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work becomes more predic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defined personal process helps you to be more effici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structures and guides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ders the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oids r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keeps you focused on what needs to be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wer rest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interru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accomplish your work in less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asis for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gathering data on your work, you can determine which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mo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e you the most trou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least effe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is information, you can identify opportunities for improving your results by making changes to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Process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main goal for this course is to prepare you to work as a member of a team that is using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SP team member, you will need defined personal work processes to plan and guide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checkbook-balancing process as an example, we will now introduce the PSP process frame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68400" y="1506600"/>
            <a:ext cx="1623960" cy="1120680"/>
          </a:xfrm>
          <a:prstGeom prst="rect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62360" y="1479600"/>
            <a:ext cx="53150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ocument the process entry criteria, phases/ steps, and exit criteria. The purpose is to guide you as you use the proce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35" name="Object 6"/>
          <p:cNvGraphicFramePr/>
          <p:nvPr/>
        </p:nvGraphicFramePr>
        <p:xfrm>
          <a:off x="1000080" y="1492200"/>
          <a:ext cx="1542960" cy="112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92200"/>
                    <a:ext cx="15429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7"/>
          <p:cNvSpPr/>
          <p:nvPr/>
        </p:nvSpPr>
        <p:spPr>
          <a:xfrm>
            <a:off x="2489400" y="1479600"/>
            <a:ext cx="980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8" name="Object 8" descr=""/>
          <p:cNvPicPr/>
          <p:nvPr/>
        </p:nvPicPr>
        <p:blipFill>
          <a:blip r:embed="rId3"/>
          <a:stretch/>
        </p:blipFill>
        <p:spPr>
          <a:xfrm>
            <a:off x="963720" y="2801880"/>
            <a:ext cx="1303200" cy="542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2519280" y="2814480"/>
            <a:ext cx="1257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762360" y="2803680"/>
            <a:ext cx="49770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Measure the process and the product. They provide insight into how the process is working and the status of the work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1" name="Object 11"/>
          <p:cNvGraphicFramePr/>
          <p:nvPr/>
        </p:nvGraphicFramePr>
        <p:xfrm>
          <a:off x="1004760" y="3706920"/>
          <a:ext cx="1219320" cy="1652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4760" y="3706920"/>
                    <a:ext cx="1219320" cy="1652400"/>
                  </a:xfrm>
                  <a:prstGeom prst="rect">
                    <a:avLst/>
                  </a:prstGeom>
                  <a:ln w="3240">
                    <a:solidFill>
                      <a:srgbClr val="87abb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2503800" y="4010040"/>
            <a:ext cx="903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762360" y="4032360"/>
            <a:ext cx="465768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vide a convenient and consistent framework for gathering and retaining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489400" y="5815080"/>
            <a:ext cx="1323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762360" y="5815080"/>
            <a:ext cx="436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vide consistent definitions that guide the work and gathering of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7" name="Object 16" descr=""/>
          <p:cNvPicPr/>
          <p:nvPr/>
        </p:nvPicPr>
        <p:blipFill>
          <a:blip r:embed="rId6"/>
          <a:stretch/>
        </p:blipFill>
        <p:spPr>
          <a:xfrm>
            <a:off x="985680" y="5537160"/>
            <a:ext cx="9716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tting the Elements Togeth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507840" y="1476360"/>
            <a:ext cx="89676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 flipV="1">
            <a:off x="1432080" y="3565080"/>
            <a:ext cx="1063440" cy="18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6456240" y="3200400"/>
            <a:ext cx="911520" cy="125568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Arc 43"/>
          <p:cNvSpPr/>
          <p:nvPr/>
        </p:nvSpPr>
        <p:spPr>
          <a:xfrm>
            <a:off x="5419800" y="2362320"/>
            <a:ext cx="1044360" cy="653760"/>
          </a:xfrm>
          <a:custGeom>
            <a:avLst/>
            <a:gdLst/>
            <a:ahLst/>
            <a:rect l="l" t="t" r="r" b="b"/>
            <a:pathLst>
              <a:path fill="none" w="2164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11945" y="0"/>
                  <a:pt x="21605" y="9630"/>
                  <a:pt x="21641" y="21534"/>
                </a:cubicBezTo>
              </a:path>
              <a:path stroke="0" w="2164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11945" y="0"/>
                  <a:pt x="21605" y="9630"/>
                  <a:pt x="21641" y="21534"/>
                </a:cubicBezTo>
                <a:lnTo>
                  <a:pt x="42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Arc 44"/>
          <p:cNvSpPr/>
          <p:nvPr/>
        </p:nvSpPr>
        <p:spPr>
          <a:xfrm>
            <a:off x="5443560" y="4672080"/>
            <a:ext cx="1020600" cy="655560"/>
          </a:xfrm>
          <a:custGeom>
            <a:avLst/>
            <a:gdLst/>
            <a:ahLst/>
            <a:rect l="l" t="t" r="r" b="b"/>
            <a:pathLst>
              <a:path fill="none" w="21600" h="21666">
                <a:moveTo>
                  <a:pt x="21599" y="0"/>
                </a:moveTo>
                <a:cubicBezTo>
                  <a:pt x="21599" y="22"/>
                  <a:pt x="21600" y="44"/>
                  <a:pt x="21600" y="66"/>
                </a:cubicBezTo>
                <a:cubicBezTo>
                  <a:pt x="21600" y="11995"/>
                  <a:pt x="11929" y="21665"/>
                  <a:pt x="0" y="21666"/>
                </a:cubicBezTo>
              </a:path>
              <a:path stroke="0" w="21600" h="21666">
                <a:moveTo>
                  <a:pt x="21599" y="0"/>
                </a:moveTo>
                <a:cubicBezTo>
                  <a:pt x="21599" y="22"/>
                  <a:pt x="21600" y="44"/>
                  <a:pt x="21600" y="66"/>
                </a:cubicBezTo>
                <a:cubicBezTo>
                  <a:pt x="21600" y="11995"/>
                  <a:pt x="11929" y="21665"/>
                  <a:pt x="0" y="21666"/>
                </a:cubicBezTo>
                <a:lnTo>
                  <a:pt x="0" y="66"/>
                </a:lnTo>
                <a:lnTo>
                  <a:pt x="21599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Arc 45"/>
          <p:cNvSpPr/>
          <p:nvPr/>
        </p:nvSpPr>
        <p:spPr>
          <a:xfrm>
            <a:off x="5443560" y="4113360"/>
            <a:ext cx="826920" cy="142560"/>
          </a:xfrm>
          <a:custGeom>
            <a:avLst/>
            <a:gdLst/>
            <a:ahLst/>
            <a:rect l="l" t="t" r="r" b="b"/>
            <a:pathLst>
              <a:path fill="none" w="21600" h="21909">
                <a:moveTo>
                  <a:pt x="21597" y="0"/>
                </a:moveTo>
                <a:cubicBezTo>
                  <a:pt x="21599" y="102"/>
                  <a:pt x="21600" y="205"/>
                  <a:pt x="21600" y="309"/>
                </a:cubicBezTo>
                <a:cubicBezTo>
                  <a:pt x="21600" y="12238"/>
                  <a:pt x="11929" y="21908"/>
                  <a:pt x="0" y="21909"/>
                </a:cubicBezTo>
              </a:path>
              <a:path stroke="0" w="21600" h="21909">
                <a:moveTo>
                  <a:pt x="21597" y="0"/>
                </a:moveTo>
                <a:cubicBezTo>
                  <a:pt x="21599" y="102"/>
                  <a:pt x="21600" y="205"/>
                  <a:pt x="21600" y="309"/>
                </a:cubicBezTo>
                <a:cubicBezTo>
                  <a:pt x="21600" y="12238"/>
                  <a:pt x="11929" y="21908"/>
                  <a:pt x="0" y="21909"/>
                </a:cubicBezTo>
                <a:lnTo>
                  <a:pt x="0" y="309"/>
                </a:lnTo>
                <a:lnTo>
                  <a:pt x="21597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Arc 46"/>
          <p:cNvSpPr/>
          <p:nvPr/>
        </p:nvSpPr>
        <p:spPr>
          <a:xfrm>
            <a:off x="5427720" y="3335400"/>
            <a:ext cx="850680" cy="185760"/>
          </a:xfrm>
          <a:custGeom>
            <a:avLst/>
            <a:gdLst/>
            <a:ahLst/>
            <a:rect l="l" t="t" r="r" b="b"/>
            <a:pathLst>
              <a:path fill="none" w="21651" h="21600">
                <a:moveTo>
                  <a:pt x="0" y="0"/>
                </a:moveTo>
                <a:cubicBezTo>
                  <a:pt x="17" y="0"/>
                  <a:pt x="34" y="-1"/>
                  <a:pt x="51" y="0"/>
                </a:cubicBezTo>
                <a:cubicBezTo>
                  <a:pt x="11980" y="0"/>
                  <a:pt x="21651" y="9670"/>
                  <a:pt x="21651" y="21600"/>
                </a:cubicBezTo>
              </a:path>
              <a:path stroke="0" w="21651" h="21600">
                <a:moveTo>
                  <a:pt x="0" y="0"/>
                </a:moveTo>
                <a:cubicBezTo>
                  <a:pt x="17" y="0"/>
                  <a:pt x="34" y="-1"/>
                  <a:pt x="51" y="0"/>
                </a:cubicBezTo>
                <a:cubicBezTo>
                  <a:pt x="11980" y="0"/>
                  <a:pt x="21651" y="9670"/>
                  <a:pt x="21651" y="21600"/>
                </a:cubicBezTo>
                <a:lnTo>
                  <a:pt x="51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>
            <a:off x="5454720" y="3813120"/>
            <a:ext cx="7524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7765920" y="4280040"/>
            <a:ext cx="1125720" cy="128556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Arc 49"/>
          <p:cNvSpPr/>
          <p:nvPr/>
        </p:nvSpPr>
        <p:spPr>
          <a:xfrm>
            <a:off x="5440320" y="2340000"/>
            <a:ext cx="3272040" cy="1936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2" y="0"/>
                </a:moveTo>
                <a:cubicBezTo>
                  <a:pt x="11937" y="7"/>
                  <a:pt x="21600" y="9675"/>
                  <a:pt x="21600" y="21600"/>
                </a:cubicBezTo>
              </a:path>
              <a:path stroke="0" w="21600" h="21600">
                <a:moveTo>
                  <a:pt x="12" y="0"/>
                </a:moveTo>
                <a:cubicBezTo>
                  <a:pt x="11937" y="7"/>
                  <a:pt x="21600" y="9675"/>
                  <a:pt x="21600" y="21600"/>
                </a:cubicBezTo>
                <a:lnTo>
                  <a:pt x="0" y="21600"/>
                </a:lnTo>
                <a:lnTo>
                  <a:pt x="12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Arc 50"/>
          <p:cNvSpPr/>
          <p:nvPr/>
        </p:nvSpPr>
        <p:spPr>
          <a:xfrm>
            <a:off x="7407360" y="3784680"/>
            <a:ext cx="804600" cy="482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2709360" y="6107040"/>
            <a:ext cx="24818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Balanced checkboo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8400960" y="5584680"/>
            <a:ext cx="0" cy="34452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6530400" y="5889600"/>
            <a:ext cx="248040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ject and pro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ta summary repor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Arc 54"/>
          <p:cNvSpPr/>
          <p:nvPr/>
        </p:nvSpPr>
        <p:spPr>
          <a:xfrm>
            <a:off x="5423040" y="4498920"/>
            <a:ext cx="828360" cy="273240"/>
          </a:xfrm>
          <a:custGeom>
            <a:avLst/>
            <a:gdLst/>
            <a:ahLst/>
            <a:rect l="l" t="t" r="r" b="b"/>
            <a:pathLst>
              <a:path fill="none" w="21600" h="217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cubicBezTo>
                  <a:pt x="21600" y="12089"/>
                  <a:pt x="11929" y="21759"/>
                  <a:pt x="0" y="21760"/>
                </a:cubicBezTo>
              </a:path>
              <a:path stroke="0" w="21600" h="217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cubicBezTo>
                  <a:pt x="21600" y="12089"/>
                  <a:pt x="11929" y="21759"/>
                  <a:pt x="0" y="21760"/>
                </a:cubicBezTo>
                <a:lnTo>
                  <a:pt x="0" y="160"/>
                </a:lnTo>
                <a:lnTo>
                  <a:pt x="21599" y="-1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6323040" y="3292560"/>
            <a:ext cx="907920" cy="123192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def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56"/>
          <p:cNvSpPr/>
          <p:nvPr/>
        </p:nvSpPr>
        <p:spPr>
          <a:xfrm>
            <a:off x="3960720" y="5908680"/>
            <a:ext cx="0" cy="2826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1490760" y="3197160"/>
            <a:ext cx="844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ui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Freeform 66"/>
          <p:cNvSpPr/>
          <p:nvPr/>
        </p:nvSpPr>
        <p:spPr>
          <a:xfrm>
            <a:off x="1393920" y="2365200"/>
            <a:ext cx="1062000" cy="890640"/>
          </a:xfrm>
          <a:custGeom>
            <a:avLst/>
            <a:gdLst/>
            <a:ahLst/>
            <a:rect l="l" t="t" r="r" b="b"/>
            <a:pathLst>
              <a:path w="528" h="445">
                <a:moveTo>
                  <a:pt x="0" y="444"/>
                </a:moveTo>
                <a:lnTo>
                  <a:pt x="86" y="424"/>
                </a:lnTo>
                <a:lnTo>
                  <a:pt x="172" y="398"/>
                </a:lnTo>
                <a:lnTo>
                  <a:pt x="212" y="383"/>
                </a:lnTo>
                <a:lnTo>
                  <a:pt x="249" y="366"/>
                </a:lnTo>
                <a:lnTo>
                  <a:pt x="287" y="343"/>
                </a:lnTo>
                <a:lnTo>
                  <a:pt x="322" y="317"/>
                </a:lnTo>
                <a:lnTo>
                  <a:pt x="354" y="288"/>
                </a:lnTo>
                <a:lnTo>
                  <a:pt x="382" y="254"/>
                </a:lnTo>
                <a:lnTo>
                  <a:pt x="410" y="216"/>
                </a:lnTo>
                <a:lnTo>
                  <a:pt x="436" y="176"/>
                </a:lnTo>
                <a:lnTo>
                  <a:pt x="483" y="90"/>
                </a:lnTo>
                <a:lnTo>
                  <a:pt x="527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Freeform 67"/>
          <p:cNvSpPr/>
          <p:nvPr/>
        </p:nvSpPr>
        <p:spPr>
          <a:xfrm>
            <a:off x="1400040" y="3905280"/>
            <a:ext cx="1063800" cy="890640"/>
          </a:xfrm>
          <a:custGeom>
            <a:avLst/>
            <a:gdLst/>
            <a:ahLst/>
            <a:rect l="l" t="t" r="r" b="b"/>
            <a:pathLst>
              <a:path w="530" h="445">
                <a:moveTo>
                  <a:pt x="0" y="0"/>
                </a:moveTo>
                <a:lnTo>
                  <a:pt x="87" y="20"/>
                </a:lnTo>
                <a:lnTo>
                  <a:pt x="173" y="45"/>
                </a:lnTo>
                <a:lnTo>
                  <a:pt x="253" y="82"/>
                </a:lnTo>
                <a:lnTo>
                  <a:pt x="290" y="103"/>
                </a:lnTo>
                <a:lnTo>
                  <a:pt x="323" y="127"/>
                </a:lnTo>
                <a:lnTo>
                  <a:pt x="356" y="156"/>
                </a:lnTo>
                <a:lnTo>
                  <a:pt x="384" y="189"/>
                </a:lnTo>
                <a:lnTo>
                  <a:pt x="438" y="267"/>
                </a:lnTo>
                <a:lnTo>
                  <a:pt x="485" y="354"/>
                </a:lnTo>
                <a:lnTo>
                  <a:pt x="529" y="444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149400" y="2873520"/>
            <a:ext cx="1225440" cy="104472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0480" bIns="154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rocess scripts and standar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71"/>
          <p:cNvSpPr/>
          <p:nvPr/>
        </p:nvSpPr>
        <p:spPr>
          <a:xfrm>
            <a:off x="3960720" y="1733400"/>
            <a:ext cx="0" cy="2826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71" name="Group 89"/>
          <p:cNvGrpSpPr/>
          <p:nvPr/>
        </p:nvGrpSpPr>
        <p:grpSpPr>
          <a:xfrm>
            <a:off x="2489040" y="2000160"/>
            <a:ext cx="2905200" cy="3902040"/>
            <a:chOff x="2489040" y="2000160"/>
            <a:chExt cx="2905200" cy="3902040"/>
          </a:xfrm>
        </p:grpSpPr>
        <p:sp>
          <p:nvSpPr>
            <p:cNvPr id="172" name="Rectangle 57"/>
            <p:cNvSpPr/>
            <p:nvPr/>
          </p:nvSpPr>
          <p:spPr>
            <a:xfrm>
              <a:off x="2489040" y="2000160"/>
              <a:ext cx="2905200" cy="390204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5120" rIns="195120" tIns="150480" bIns="15048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ckbook process 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Text Box 82"/>
            <p:cNvSpPr/>
            <p:nvPr/>
          </p:nvSpPr>
          <p:spPr>
            <a:xfrm>
              <a:off x="2705040" y="2451240"/>
              <a:ext cx="2502000" cy="33922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 data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ear transactio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regist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bank stat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e balan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morte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Line 83"/>
            <p:cNvSpPr/>
            <p:nvPr/>
          </p:nvSpPr>
          <p:spPr>
            <a:xfrm>
              <a:off x="2705040" y="28447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Line 84"/>
            <p:cNvSpPr/>
            <p:nvPr/>
          </p:nvSpPr>
          <p:spPr>
            <a:xfrm>
              <a:off x="2705040" y="33019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Line 85"/>
            <p:cNvSpPr/>
            <p:nvPr/>
          </p:nvSpPr>
          <p:spPr>
            <a:xfrm>
              <a:off x="2705040" y="37591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Line 86"/>
            <p:cNvSpPr/>
            <p:nvPr/>
          </p:nvSpPr>
          <p:spPr>
            <a:xfrm>
              <a:off x="2705040" y="41911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Line 87"/>
            <p:cNvSpPr/>
            <p:nvPr/>
          </p:nvSpPr>
          <p:spPr>
            <a:xfrm>
              <a:off x="2705040" y="497844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Line 88"/>
            <p:cNvSpPr/>
            <p:nvPr/>
          </p:nvSpPr>
          <p:spPr>
            <a:xfrm>
              <a:off x="2705040" y="541008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ripts in the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eckbook balancing process has one high-level scrip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101"/>
          <p:cNvSpPr/>
          <p:nvPr/>
        </p:nvSpPr>
        <p:spPr>
          <a:xfrm>
            <a:off x="973080" y="2165400"/>
            <a:ext cx="3032280" cy="4270320"/>
          </a:xfrm>
          <a:prstGeom prst="rect">
            <a:avLst/>
          </a:prstGeom>
          <a:solidFill>
            <a:srgbClr val="87ab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5120" rIns="195120" tIns="150480" bIns="150480"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3" name="Group 119"/>
          <p:cNvGrpSpPr/>
          <p:nvPr/>
        </p:nvGrpSpPr>
        <p:grpSpPr>
          <a:xfrm>
            <a:off x="1168560" y="2603520"/>
            <a:ext cx="2501640" cy="3392280"/>
            <a:chOff x="1168560" y="2603520"/>
            <a:chExt cx="2501640" cy="3392280"/>
          </a:xfrm>
        </p:grpSpPr>
        <p:sp>
          <p:nvSpPr>
            <p:cNvPr id="184" name="Text Box 112"/>
            <p:cNvSpPr/>
            <p:nvPr/>
          </p:nvSpPr>
          <p:spPr>
            <a:xfrm>
              <a:off x="1168560" y="2603520"/>
              <a:ext cx="2501640" cy="339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 data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ear transactio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regist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bank stat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e balan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morte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Line 113"/>
            <p:cNvSpPr/>
            <p:nvPr/>
          </p:nvSpPr>
          <p:spPr>
            <a:xfrm>
              <a:off x="1168560" y="29970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Line 114"/>
            <p:cNvSpPr/>
            <p:nvPr/>
          </p:nvSpPr>
          <p:spPr>
            <a:xfrm>
              <a:off x="1168560" y="34542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Line 115"/>
            <p:cNvSpPr/>
            <p:nvPr/>
          </p:nvSpPr>
          <p:spPr>
            <a:xfrm>
              <a:off x="1168560" y="39114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8" name="Line 116"/>
            <p:cNvSpPr/>
            <p:nvPr/>
          </p:nvSpPr>
          <p:spPr>
            <a:xfrm>
              <a:off x="1168560" y="43434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Line 117"/>
            <p:cNvSpPr/>
            <p:nvPr/>
          </p:nvSpPr>
          <p:spPr>
            <a:xfrm>
              <a:off x="1168560" y="513072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Line 118"/>
            <p:cNvSpPr/>
            <p:nvPr/>
          </p:nvSpPr>
          <p:spPr>
            <a:xfrm>
              <a:off x="1168560" y="556272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6560" y="928440"/>
            <a:ext cx="7866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asures in the Checkbook Proces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measures in the checkbook balancing PSP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spent in each phas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ime - end time - interruptio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easur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transa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/removed in each phas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thing that must be chang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checkbook balance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74880" y="2424240"/>
            <a:ext cx="730080" cy="98568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5" descr=""/>
          <p:cNvPicPr/>
          <p:nvPr/>
        </p:nvPicPr>
        <p:blipFill>
          <a:blip r:embed="rId2"/>
          <a:stretch/>
        </p:blipFill>
        <p:spPr>
          <a:xfrm>
            <a:off x="1039680" y="3656160"/>
            <a:ext cx="1303560" cy="54288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6" descr=""/>
          <p:cNvPicPr/>
          <p:nvPr/>
        </p:nvPicPr>
        <p:blipFill>
          <a:blip r:embed="rId3"/>
          <a:stretch/>
        </p:blipFill>
        <p:spPr>
          <a:xfrm>
            <a:off x="966960" y="4452840"/>
            <a:ext cx="10555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rms in the Checkbook PSP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on the measures are recorded on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: records the time for each process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: records information on each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 injected and phase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find and fix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: records a summary of planned and actu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17720" y="1709640"/>
            <a:ext cx="76802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ime log records the actual duration of each PSP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000080" y="2163600"/>
          <a:ext cx="4740480" cy="44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163600"/>
                    <a:ext cx="4740480" cy="4415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720" y="1709640"/>
            <a:ext cx="7502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:  time when the phase beg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op:  time when work ended, even if the phase is not yet fin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ruption time: time (in minutes) lost due to interru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ta time:  elapsed time from start to stop, minus interruptio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:  name of the phase currently in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s:  any pertinent details that might later remind you of any unusual circumstances regarding this a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log holds information on each defect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003320" y="2120760"/>
          <a:ext cx="568944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120760"/>
                    <a:ext cx="5689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5"/>
          <p:cNvSpPr/>
          <p:nvPr/>
        </p:nvSpPr>
        <p:spPr>
          <a:xfrm>
            <a:off x="960480" y="2095560"/>
            <a:ext cx="5719680" cy="387360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umber:  unique number of the defect (each project starts over with number 1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ype:  defect type from the defect type standar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ject:  phase during which the defect was 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move: phase in which the defect was found and fix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x time:  time that you took both to find and fix the defect. You may time it exactly, or use your best judgment as to the time spent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ption:  succinct explanation of the error to help you later in recalling why you made the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91800" y="1557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form hol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mulative data 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projects to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3767040" y="1533600"/>
          <a:ext cx="4708800" cy="50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7040" y="1533600"/>
                    <a:ext cx="4708800" cy="504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: Plan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lan column, enter your best estimate of the total time that it will take to balance your chec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ject Plan Summary: Postmortem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actual: Enter the actual time in minutes (from the time log) that you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to date: Enter the total time spent in each phase to 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the first month, this will be the actual time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later months, this will be the cumulative time spent so far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to date %:  Enter the percent of the total to date time that was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the first month, this will be the actual time divided by the total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later months, this will be the total time per phase divided by the total time to 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ject Plan Summary: Postmortem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: Enter the actual number (from the defect log) of defects injected and removed in each phas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o date: Enter the total defects injected and removed in each phase to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o date %: Enter the percent of the total to-date defects injected and remove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andard for the Checkbook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defect standard that defines the defect typ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950760" y="2090880"/>
          <a:ext cx="633096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090880"/>
                    <a:ext cx="63309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ersonal process is an ordered set of steps that individuals use to guid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ing and using a personal process helps individuals to plan, do, track, and improv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ipts, measures, forms, and standards are elements of a good process definition, as illustrated by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at a personal process 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it is useful to define and use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PSP framework for describing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79560" y="1696680"/>
            <a:ext cx="7743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go over the PSP scripts used in the checkbook process to help you understand the process phases and step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e read Maris’s scenario, fill out the workbook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will assist you in determining what goes in each field of the various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24600" y="5894280"/>
            <a:ext cx="1851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718080" y="5521320"/>
            <a:ext cx="7300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spend the mos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inject the most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remove the most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es the defect injection/removal pattern imply about Maris’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a personal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define, use, and measure a personal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process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Proces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is a defined set of steps for doing a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guides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is usually defined for a job that is done multiple tim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provides a foundation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roce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a template, a generic set of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a set of steps for a specific job, plus other things such as effort, costs, and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Personal Proces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use a process for your personal work, it is called a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usually developed from your personal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start with a proven process that was developed by someone el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odify and improve the process to suit your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sonal Process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process that you use, such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ready f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ing to a specific lo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ying your b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king cook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wing your law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down the steps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09800" y="5408640"/>
            <a:ext cx="1618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4043520" y="5022720"/>
            <a:ext cx="73008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documenting a process, it is common to specify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d inputs to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s of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it criteria for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eps are described only with enough detail to guide the user of the process; they are not a set of training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 shows an example of a process for  balancing a chec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Personal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0" name="Object 8"/>
          <p:cNvGraphicFramePr/>
          <p:nvPr/>
        </p:nvGraphicFramePr>
        <p:xfrm>
          <a:off x="752400" y="1784520"/>
          <a:ext cx="675324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784520"/>
                    <a:ext cx="67532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19:47:34Z</cp:lastPrinted>
  <dcterms:modified xsi:type="dcterms:W3CDTF">2018-09-06T00:16:02Z</dcterms:modified>
  <cp:revision>173</cp:revision>
  <dc:subject/>
  <dc:title>No Slide Title</dc:title>
</cp:coreProperties>
</file>